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88A-1DE6-43F5-A126-8DEF18FD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B59-7D7A-40F8-BC10-64A2064A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F33-21B7-4697-917C-DEB2AC04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A96-BB07-4865-927E-1113E5BB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AC83-F5FD-414A-8577-26EDAB3D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A3D-5141-48ED-91BB-AB70B01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C00F-7647-43D3-AE1B-ACB503C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FFD-983A-4B0F-88AB-FBFB93D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5811-BBDA-46DE-99D4-50372799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4D6D-4535-4772-80A3-F8EAB47C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F9ED-6229-4CF8-9A0F-BD6F3A7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7CF-F3C9-477B-891F-A78D392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3AA-FEB8-4236-BA03-FD19A4D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6F0-41C5-4404-8C9A-8950EAF4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50CF-FDB7-4E41-9A70-D957B90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E760-00AF-4ABC-81FC-C061242A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204-283B-4EED-81AB-B1F02F32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B3C-1EB9-4A90-A387-0463A951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1BC-48EA-4CD8-B075-876E79B9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AE9-CC9D-4E18-AA1E-D8735E7B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48D-511C-45FE-84C7-A53CA5DF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8FE-1183-4598-805B-12595C5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F33-C361-4E34-B2AB-1F2F79E7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906-215D-4025-B57C-443D7892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5BF-62F7-4E24-B2D1-694C40992D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07EA-81FA-4925-94E1-06EF3B899D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ndering In The Wildern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15:32 – 22: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bbath-breaker Put To Death – 15:32-3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sels On The Garments – 15:37-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ellion of Korah, Dathan, Abiram -16:1-4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Moses And Aa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Opens The Earth To Swallow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ellion of the Israelites -16:41-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Moses and Aa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lagues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ron’s Rod That Budded – 17:1 – 18: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rmation of God’s Choice of Pri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riam Dies – 20: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ters of Meribah – 20:2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 Ev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es Asks Permission to Cross Edom’s Territory – 20:14-2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est Den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th of Aaron – 20:22-2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ttle With King Arad – 21:1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ue of the Fiery Serpents – 21:4-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pent On Po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of Sin &amp; Salvation in Chr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ey To Mount Pisgah – 21:10-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 Sihon, King of Amorites – 21:21-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eat Og, King of Bashan – 21:33-3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eneral Outline 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Makes A Cove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02:04Z</dcterms:created>
  <dc:creator>Terry W. Benton</dc:creator>
  <dc:description/>
  <dc:language>en-US</dc:language>
  <cp:lastModifiedBy>Terry W. Benton</cp:lastModifiedBy>
  <dcterms:modified xsi:type="dcterms:W3CDTF">2004-11-30T18:49:46Z</dcterms:modified>
  <cp:revision>3</cp:revision>
  <dc:subject/>
  <dc:title>Wandering In The Wilderness</dc:title>
</cp:coreProperties>
</file>